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6D07-CF4A-448C-A24E-D849DDA16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24E8-8973-403D-BB77-2593F3B2BA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have or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28E1-D721-427E-8498-0CC326B39B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just calculating mar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1281-CB7A-404B-9E8D-D4CDD061A7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ing (Promotions), New sales incentives, product life cycle extension strategi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to suppliers, try to get supply costs down by getting different suppl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financial control, maybe looking at cost ce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3D9B-6CD3-4485-B58E-99CF81BF8F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4B1-FFB9-4B4F-9D7A-9A3B578B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3F0-1F6A-4E97-B61F-BE13D94A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D06-3D58-4C25-AD6C-97A57DD8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4B1-D169-4E66-BF8D-F8850110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774C-2D1F-48B1-9D74-9E1DC752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31E6-1CB7-4961-AD8A-FA343CC9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DB25-810C-45EE-A632-F2CE27F9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FFE5-3C01-4F47-B2E3-479EE068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D1B-B73A-454A-A877-D4088AD5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3546-7538-43C2-838A-A3B5E1EE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AB94-1739-451A-9ABA-95BCDF43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7EF-EB1F-4727-BFDE-799D0F6E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501D-C7AB-4115-9EDC-5ADB439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49BE-3D1E-4074-9305-D07CCB05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2E0A-2963-4FA5-900F-36E87EFA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2A9A-72F2-4B89-8CAF-F5AA1BF8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ED2E-BF76-4D7D-980E-1B837835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95F2-EDBB-45A8-BA79-5E4271BE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B5B8-7A74-4BA8-AAE6-4EF27C89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DBAF-CFDC-4B3A-8774-78DC00D5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3C9D-2C82-47A7-A893-BBF898D6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146C-C145-4858-92C5-C16FA0CD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FBA-E689-412F-814B-4BAAB15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4135-9F5D-4A3A-9924-5BE92E72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7230-B143-4B52-AB65-DBEEC702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A3E9-540A-45B4-A315-0E8C486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4A84-08C3-4896-A664-879E82A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4228-8F09-4860-A175-53395A21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125D-089B-4851-8DF7-FE9741EC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75F2-102D-44F8-BA17-B5CE5FDE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74423-1071-4110-8A2F-A4118E46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E82B-F59A-4D92-82F8-F0736AA7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02F8-63BD-4713-880B-18C59144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90A-24D8-464E-97A8-55364AAA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7685-D197-41E8-971A-411147EA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A159-27EF-4DE1-B89C-331003D8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0A56-C609-41AC-AAD4-600E2076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F3F5B-C421-4099-A33D-D70EF68F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814E-7F5E-4437-9F19-A246882E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740CA-0E93-45F0-B9B8-964F0DF7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5EDE-7627-4A33-9469-DA5D28C0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B260D-01D9-42B2-AFEF-A2CDBA37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D42E-6975-4FA3-9989-C2FC3FBE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F2A47-6965-4E1B-B1A8-972CACBD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A46-CDA0-4B2E-93B4-C93E838A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2A2C-0D03-4F7E-8BD1-2238B0A4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745A-91B5-4FEF-82B9-4E936768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CC1B-45AB-4287-8991-BAE666FF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2A04-860E-468C-B6B1-742C7A02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29CC5-A6E4-4F8B-9D1F-81C355C8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89280-C47F-47F4-B208-0356CE3D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522DA-3C9E-468C-9E34-372EFFE2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36D35-9504-41B4-B11C-6D63843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C31D-B72E-44BF-A280-1048B281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E60D-FAA9-4E99-B6A9-A39711E5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732-909B-4074-B17D-B0E81F1A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825A5-E0F3-41B8-906E-52B5E86C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7DF8-3137-40C5-A4F5-64A36594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82ED0-7111-4ED9-9F9B-EEFEB2C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5EB66-A01A-4539-851A-6DE0B517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6FA8-6905-4AD9-BEA5-CAC89BB9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00F61-9D21-47F9-9878-E7C58BC3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2406-DDD1-4E75-A666-20720300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286FD-D601-46E7-9F31-14C58489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D1BD-9482-4CD1-9240-03F696BC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916F-D91A-4FBA-91C6-E69EEE0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15F-E6BA-4552-8F37-FE4E702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CBA44-DF69-4DA5-9D4D-19719915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2F75F-6E2F-4A4F-8304-D21B5B27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78DC-94CE-4351-985B-B47B392E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A7A-971F-47C0-802F-356AEF3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23D-A3C8-4B2B-823A-7F34AA9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EC36-0EEA-4F2A-A638-283AAB44B34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20F8-F3A6-4F7A-AE4C-B53B4080090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B4C6-528B-465F-9DAD-0888832C3A9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1C85-A132-4F7A-BF29-6DA8BCB72A6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3BE-198D-4EF8-821F-927A747E2D8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948-23EB-48D5-BA35-16C577BEF69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0" y="1523520"/>
            <a:ext cx="91440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91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NIT: 3.3 – Break-even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91960">
              <a:spcBef>
                <a:spcPts val="9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derstand/practice break-even analysis &amp; margin of saf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-763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d4d2d0"/>
                </a:solidFill>
                <a:latin typeface="Arial Rounded MT Bold"/>
              </a:rPr>
              <a:t>IB Business Manage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-Even Analysis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0" y="80820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 Rounded MT Bold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Jeans retailer has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fixed costs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of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$3,500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per mon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ach pair of jeans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sell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for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$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$10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in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variable costs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er pair of je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What is th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break-even point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Franklin Gothic Book"/>
              </a:rPr>
              <a:t>Calculating Break-Even Poin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0" y="50328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 Rounded MT Bold"/>
              </a:rPr>
              <a:t>Method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dentify wher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total costs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qual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total revenue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on a break-even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break-even point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s the position where th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total cost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line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 intersect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the </a:t>
            </a:r>
            <a:r>
              <a:rPr b="0" lang="en-US" sz="3600" spc="-1" strike="noStrike">
                <a:solidFill>
                  <a:srgbClr val="ffff99"/>
                </a:solidFill>
                <a:latin typeface="Arial Rounded MT Bold"/>
              </a:rPr>
              <a:t>total revenue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line (TC=T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http://www.bized.co.uk/sites/bized/files/images/virtual/bank/break_even2.gif"/>
          <p:cNvPicPr/>
          <p:nvPr/>
        </p:nvPicPr>
        <p:blipFill>
          <a:blip r:embed="rId1"/>
          <a:srcRect l="0" t="8330" r="0" b="0"/>
          <a:stretch/>
        </p:blipFill>
        <p:spPr>
          <a:xfrm>
            <a:off x="2281320" y="4189320"/>
            <a:ext cx="3967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Franklin Gothic Book"/>
              </a:rPr>
              <a:t>Calculating Break-Even Poin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50328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 Rounded MT Bold"/>
              </a:rPr>
              <a:t>Method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sing the TC = TR ru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FC + TVC = Price x Quant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3500 + 10(Q) = 30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3500 = 20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175 = Q (pairs of jean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Franklin Gothic Book"/>
              </a:rPr>
              <a:t>Calculating Break-Even Poin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457200"/>
            <a:ext cx="914400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 Rounded MT Bold"/>
              </a:rPr>
              <a:t>Method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nit contribution is  the difference between a product</a:t>
            </a:r>
            <a:r>
              <a:rPr b="0" lang="ja-JP" sz="3600" spc="-1" strike="noStrike">
                <a:solidFill>
                  <a:srgbClr val="ffffff"/>
                </a:solidFill>
                <a:latin typeface="Arial Rounded MT Bold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 price and variable c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ontribution = Price – V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reak-Even Point = TFC / Unit Con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$3500</a:t>
            </a: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$30-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Straight Connector 3"/>
          <p:cNvSpPr/>
          <p:nvPr/>
        </p:nvSpPr>
        <p:spPr>
          <a:xfrm flipH="1">
            <a:off x="2133360" y="4876920"/>
            <a:ext cx="1981080" cy="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2514600" y="3932280"/>
            <a:ext cx="50292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1718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  <a:ea typeface="ＭＳ Ｐゴシック"/>
              </a:rPr>
              <a:t>= 175 pai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Franklin Gothic Book"/>
              </a:rPr>
              <a:t>Break-Even Example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0" y="57960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se the unit contribution method to calculate the break-even quantity for a firm that has the following financia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FC = $200,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VC = $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rice = $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 - AVC = unit contrib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reak-even = fixed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nit contrib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Straight Connector 4"/>
          <p:cNvSpPr/>
          <p:nvPr/>
        </p:nvSpPr>
        <p:spPr>
          <a:xfrm>
            <a:off x="2666880" y="5638680"/>
            <a:ext cx="3962520" cy="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lculate this BEQ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high end kite maker has fixed costs of 25,500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e has a Variable Cost of $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e is selling the kites for $7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break-even quantit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value of the total revenue at the break-even quant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value of total costs at the break-even quant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Franklin Gothic Book"/>
              </a:rPr>
              <a:t>Margin of Safety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0" y="57960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Measures </a:t>
            </a:r>
            <a:r>
              <a:rPr b="1" lang="en-US" sz="3400" spc="-1" strike="noStrike">
                <a:solidFill>
                  <a:srgbClr val="ffff99"/>
                </a:solidFill>
                <a:latin typeface="Arial Rounded MT Bold"/>
              </a:rPr>
              <a:t>difference between </a:t>
            </a: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firm</a:t>
            </a:r>
            <a:r>
              <a:rPr b="0" lang="ja-JP" sz="3400" spc="-1" strike="noStrike">
                <a:solidFill>
                  <a:srgbClr val="ffffff"/>
                </a:solidFill>
                <a:latin typeface="Arial Rounded MT Bold"/>
              </a:rPr>
              <a:t>’</a:t>
            </a: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s </a:t>
            </a:r>
            <a:r>
              <a:rPr b="1" lang="en-US" sz="3400" spc="-1" strike="noStrike">
                <a:solidFill>
                  <a:srgbClr val="ffff99"/>
                </a:solidFill>
                <a:latin typeface="Arial Rounded MT Bold"/>
              </a:rPr>
              <a:t>current sales quantity </a:t>
            </a: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&amp; </a:t>
            </a:r>
            <a:r>
              <a:rPr b="1" lang="en-US" sz="3400" spc="-1" strike="noStrike">
                <a:solidFill>
                  <a:srgbClr val="ffff99"/>
                </a:solidFill>
                <a:latin typeface="Arial Rounded MT Bold"/>
              </a:rPr>
              <a:t>break-even poi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Positive margin means that firm is making a profi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Always shown in units, not dollar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Arial Rounded MT Bold"/>
              </a:rPr>
              <a:t>Safety margin = level of demand – breakeven qt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" descr="http://www.bized.co.uk/sites/bized/files/images/virtual/usbank/margin_safety.gif"/>
          <p:cNvPicPr/>
          <p:nvPr/>
        </p:nvPicPr>
        <p:blipFill>
          <a:blip r:embed="rId1"/>
          <a:stretch/>
        </p:blipFill>
        <p:spPr>
          <a:xfrm>
            <a:off x="2378160" y="3970440"/>
            <a:ext cx="40989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Franklin Gothic Book"/>
              </a:rPr>
              <a:t>Margin of Safety Example 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80820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Demand for jeans is 280 pairs per month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Break-even point is 175 pairs per month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Safety margin is 105 units (280-175 = 105)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This means the business can sell 105 fewer pairs of jeans before losing mone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S as a percentage of BEQ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easier to compare the 2 numbers if it is written as a percentage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BEQ/Level of demand) x 1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05 ÷ 175) x 100 = 6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70c0"/>
                </a:solidFill>
                <a:latin typeface="Franklin Gothic Book"/>
              </a:rPr>
              <a:t>Constructing a Break-even Char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to follow when constructing BE cha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/label TFC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/label TC line. Q = 0; TC start at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/label TR line. Q = 0; TR starts at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axis is labeled a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axis is labeled a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, Revenue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Fixed or Variable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179856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R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W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ala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nsu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om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Uti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ing Even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65556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usiness can be in one of the following financial situ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Loss: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costs exceeds reve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Break-Even: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costs equal reve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Profit: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revenue exceeds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http://www.bized.co.uk/sites/bized/files/images/virtual/bank/break_even2.gif"/>
          <p:cNvPicPr/>
          <p:nvPr/>
        </p:nvPicPr>
        <p:blipFill>
          <a:blip r:embed="rId1"/>
          <a:srcRect l="0" t="8330" r="0" b="0"/>
          <a:stretch/>
        </p:blipFill>
        <p:spPr>
          <a:xfrm>
            <a:off x="2097000" y="3962520"/>
            <a:ext cx="430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ing Even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65556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Break-even point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xists where a business makes neither profit nor l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is occurs at the level of output where </a:t>
            </a: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total costs equal total reve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ypically a goal of new fi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http://www.bized.co.uk/sites/bized/files/images/virtual/bank/break_even2.gif"/>
          <p:cNvPicPr/>
          <p:nvPr/>
        </p:nvPicPr>
        <p:blipFill>
          <a:blip r:embed="rId1"/>
          <a:srcRect l="0" t="8330" r="0" b="0"/>
          <a:stretch/>
        </p:blipFill>
        <p:spPr>
          <a:xfrm>
            <a:off x="2281320" y="3809880"/>
            <a:ext cx="453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Contribution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urpose of calculating contributio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ny product w/ a positive contribution                will help pay some of the FC of th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on per unit = P – AV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ays to improve profi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rease Sales Reven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you do th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rease Variable Cost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you do th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rease Fixed Co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you do th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Franklin Gothic Book"/>
              </a:rPr>
              <a:t>Meaning of Break-Even Poin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50328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otal Costs = Total Revenue when output reaches the break-even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ny sales above the break-even quantity will generate a prof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ales below the break-even level will yield a l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5" descr="http://utdallas.edu/~vxc054000/ba3365/img/fig8.jpg"/>
          <p:cNvPicPr/>
          <p:nvPr/>
        </p:nvPicPr>
        <p:blipFill>
          <a:blip r:embed="rId1"/>
          <a:stretch/>
        </p:blipFill>
        <p:spPr>
          <a:xfrm>
            <a:off x="3429000" y="3722760"/>
            <a:ext cx="44956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-even Analysis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usiness can only survive in the long run if revenue &gt;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firms especially want to determine the level of sales needed to generate a prof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Break-Even Analysis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0" y="1189080"/>
            <a:ext cx="91440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wo </a:t>
            </a:r>
            <a:r>
              <a:rPr b="1" lang="en-US" sz="3600" spc="-1" strike="noStrike">
                <a:solidFill>
                  <a:srgbClr val="ffff99"/>
                </a:solidFill>
                <a:latin typeface="Arial Rounded MT Bold"/>
              </a:rPr>
              <a:t>purpose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for conducting a break-even analysis, which helps determin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f its financially worthwhile to produce a particular good or service (such as introducing a new produc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mount of profit that business is likely to earn if things go according to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1:29:44Z</dcterms:created>
  <dc:creator>Spencer Griffith</dc:creator>
  <dc:description/>
  <dc:language>en-US</dc:language>
  <cp:lastModifiedBy>Amy Jacobs</cp:lastModifiedBy>
  <dcterms:modified xsi:type="dcterms:W3CDTF">2016-09-20T01:29:14Z</dcterms:modified>
  <cp:revision>139</cp:revision>
  <dc:subject/>
  <dc:title>Slide 1</dc:title>
</cp:coreProperties>
</file>